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F09B-F0A1-4B72-A165-8045242790F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beidsei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EA16-A6D9-47AD-9652-F2B4875B6E4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mit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22C-8210-4CAD-970F-BF257705C5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nenn = Stangenk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A = Anwendungsfaktor zur Berücksichtigung stoßartiger Belastung (zwischen 1,0 fü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und über 2,25 für starke stoßartige Belas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σbzul = zulässige Biegespannung, typ. 0,3 Rm bei ruhender, 0,2 Rm bei schwellender, 0,15 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wechselnder Bela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 = Einspannfaktor – abhängig vom Einbaufall (Werte in Klammern für Gleitverbindun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6 (1,9) Einbaufall 1 (Bolzen lose in Stange und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4) Einbaufall 2 (Bolzen mit Übermaßpassung in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2) Einbaufall 3 (Bolzen mit Übermaßpassung in der St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77B2-10E6-4EBA-B60A-C0EA59A5E64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s = Querschnittsfläche des Bolz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779-1B49-4AA5-8FC6-571E277EAD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Passgenauigke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wenn die Verbindung öfters gelöst werden s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 gleicht Abnutzung oder Lochaufweitung 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meist als Passstifte, aber auch als Verbindungs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freiben der kegeligen Bohrung ist erforderlich, daher relativ teuer in der Herstel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Nicht rüttelf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stifte werden in ungehärtetem Zustand eingesetz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Gewinde zum leichteren Lö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FD0-9471-40A7-82AE-1FC1560E8CA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s ungehärtetem Stahl und aus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muss aufgerieben werden - &gt; te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hochbeanspruchte Teile durchgehärtete oder einsatzgehärtete 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Zylinderstifte mit Innengewinde, wenn Stift nicht herausgeschlagen werden k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bflachung oder Längsrille dient zum Abfließen von Luft oder Ö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chtung auf Schwächung der Welle durch Bohr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3363-9C44-4EF1-938E-9D4F6BC7F60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3 Kerbwulstpaare am Umf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einfach herstellbar (kein Aufreib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in Einpressen nur elastische Verformung der Kerbwul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Rüttelfest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hrfach wieder verwend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Sehr wirtschaftlich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als Sicherungsstift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rbnägel für gering beanspruchte 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bstifte i.d.R. aus Stahl oder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rte der Stifte soll größer sein als die der Bau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8769-D295-4436-BF33-9DE1907597F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ufig angewendet als Gelenkverbind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enger die Passungen, umso genauer die Führ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kann aber auch Gründe für großes Spiel geben, z.B. zur Aufnahme vo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Wärmedehn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oder falls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arke Verschmutz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erwartet werden -&gt; Gelenk bleibt a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 diesen Bedingungen leichtgäng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EF6-42A9-4F35-A8BF-D48894F600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ypische Hauptbeanspruc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sch: Biegung  (ETB S.4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leitend (Lager): Flächenpres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Zusätzlich: Schu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3B4-85A7-4B0A-B8A0-8BF9451A396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egebelastung: frei aufli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M S. 2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6C6-31F5-4740-B4B5-E102227EA35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431-18DA-4E60-8F3B-98A4E7A0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0E1-3254-4CA7-A5A0-A523454E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E09-5BB6-47F1-8796-8CD97626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F8F-A169-4927-B08E-761A78BB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B77-A0C9-4EC7-B846-7E0E367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D8EC-B305-46E6-AD8F-A31B665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6CB-9A4C-47F7-BE0F-A6CBA4C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7F21-1119-49B2-AB8C-A8255A9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545E-CF22-401B-9A01-AF23094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32DB-C9B3-4163-9097-D428A917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9E9-7987-43CB-89BF-E8C71959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ABB-2396-4567-B0E4-E66C706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1E87-8DF4-4019-AE04-6E6AC41A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ACF4-AB70-4D56-B3B0-55C328A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F1F3-C35B-4681-B277-D83CF2B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788-17B6-4CC6-AB3B-E0EE09B9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190-F212-4563-9277-3A6E90C6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2BF4-C565-49A7-A25B-C5ADBC0E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CE2AF-AFB3-4F5B-A1E0-3AD42D2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AB47D-AAC5-4D07-A2B9-EAF6EC2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5732F-0069-43D4-AA4E-0FFA7A4D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C842D-1B72-455B-A1C1-B405FF7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6F2-E2F5-4F17-80F0-5E670A4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E302A-2146-4C6C-B0A8-23A76C1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99F56-E2A1-4ED2-A1EC-38F2046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556E6-89C2-4947-83FA-DEB10E9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30541-8397-4098-B0D6-2E1D6FF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0F8A0-3F68-4DA5-8664-6A34F11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1BE25-7B73-43FF-B983-644CC2CF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937A8-C3F0-4BF2-A3BA-6AE7AE69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54F0E-2C2E-4CC3-A7CB-747503F3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BDC5B-DB4A-43AA-97EF-DBE89C9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AFEB1-7F8A-4270-831A-8C545B3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054-95D1-4DE2-8B72-926FB27E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9D33F-ED1B-4716-8AA4-05E4A36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325E8-D6D0-49BC-8D31-BF7DB266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8EAF9-DAE6-4CF4-9E93-2343E05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4070E-64D5-4D64-BFFE-B4BAF3B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638E1-C89F-4BF1-84B5-0FACAA5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B1A93-1B4E-46CC-BBA2-14FC40B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5670D-431C-4FF2-BB57-17ACF81A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E5022-EECC-45DE-82C7-794352DD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A688F-7792-4FC5-A7A8-21C7BD4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9F18A-6F0A-444B-ADDA-BE155B85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505-BD8D-45F3-A7B8-8CC41AB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AE875-A5D7-4E60-9084-5A434E46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3F5A2-E05E-432D-B4CE-F840129E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3FDF4-53DD-47ED-A307-D45AE72C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4192B-1A39-433A-B783-0350EAC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2C7B0-B131-4C8D-B871-81CA2DB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6A2DE-1711-4EF3-B96F-9958F88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87D00-67CC-45E8-8DD7-CAB27FA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394D8-FC56-4F82-8001-0859704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1FA39-E294-4449-B07C-5B587D8E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DBB08-C1DC-4BB3-90FC-79312C13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069-E806-40AB-B5E8-0E1A4FE1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53D56-CFFC-4C91-9A09-D70D782E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AB26-0021-4163-8CA6-6BADAF02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F711-FD0A-4CAE-BDD7-CD0EC7A1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7266-9AC2-4535-9435-E251FDEB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C2A0-CF01-4DD7-985A-346C6B06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E52D-19CF-4204-ADF9-EDC844F4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721D-491B-418F-920A-B1EEF6C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5184-83E3-49EF-9473-B352C0D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63592-10AE-4CB0-A95C-6CE262A3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3FFBD-1BAB-4B63-880F-87EEB86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7C7-3506-4739-B3A9-9126EC5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70EB-A785-4F9A-8B8E-02F18ED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0CEA-4B30-4028-92C4-E0539A10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037D-8474-45F3-9A1F-34AF11BA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7AD76-EA79-4504-985A-C398EF3A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98DAD-8754-4B9D-82D7-31D5066F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C4714-A237-473F-A771-CBBD979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5912C-1A58-419E-9360-08C1ED6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0E119-0729-457E-8F8D-07F7E11E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B7BD2-90E9-4BB5-B30E-545B9AE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810BE-1F98-4D98-B3BD-2990471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7D3-F4F1-4B90-BAEE-684BC33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F80C8-B5CF-4D60-B7A7-4CB897C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25258-3B01-4D51-85B1-DEFB2E71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C502D-EA48-45B3-9472-17C11B1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1FB73-DC0C-4A39-903A-24AD396A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35F26-72B2-4324-909D-93C635ED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08CB-08B6-40F4-B213-095BD12F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E27B-6EDA-4CA0-B0E9-3CBE3BE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41E3D-BDFB-4D9A-ACE6-BEDB630A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FEF1-1BF1-4FCA-A7D5-1A99000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FB96F-4045-4C0D-AB4D-08A60DCB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39B-0DB4-4B34-8DE3-9223EED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509B-9C3F-451D-AB2E-929AF5A2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BF0C-7FD3-4B43-A8BE-11FDC80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97D31-ED6D-4E01-B2B7-2FA1EF0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D52BC-0DAA-4FAE-9246-56579C4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0C28-ED06-4022-B5E1-D89DBFB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FABD-6C8A-4E79-AE4A-D695C261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DEF9A-E85E-4627-8D75-AFDD530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FEE-F88F-41F1-B52A-BF1222235DEA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B88B-01C7-4C9F-9A3D-BF85E471E126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679-5F6E-4441-BA14-13ECE8F4EAA2}" type="datetime">
              <a:rPr b="0" lang="de-DE" sz="2000" spc="-1" strike="noStrike">
                <a:solidFill>
                  <a:srgbClr val="ffffff"/>
                </a:solidFill>
                <a:latin typeface="Tw Cen MT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3BD-83E6-443E-9C41-68339A1E09F0}" type="slidenum">
              <a:rPr b="1" lang="de-DE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79F8-8EE5-4811-837B-014944FB5545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79B-0001-4F61-BCF8-4E9B22ECD459}" type="slidenum">
              <a:rPr b="1" lang="de-DE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DE9-FF74-411A-B356-6B6A0C54DA92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2463-BE52-48CD-898C-FCE2E93474EF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E2C-70AE-4FBA-91B2-A33FFF9C5675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11A-9177-4E3D-9CAA-DDD7D54E4921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D08D-CD9D-4B3A-A7C2-7E9C75479C67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670-2A66-4A76-AC2D-618E662CA756}" type="slidenum">
              <a:rPr b="1" lang="de-DE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D07-7942-4484-BEAE-427BE36BC32B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ED5D-9848-4A93-8341-B75B0DAED5D9}" type="slidenum">
              <a:rPr b="1" lang="de-DE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5DC-C2AA-45E7-80B1-78F7EEBC8F28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63C-9115-4D88-BD37-94E2A1AB3EF4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bddc3"/>
                </a:solidFill>
                <a:latin typeface="Tw Cen MT"/>
              </a:rPr>
              <a:t>BOLZEN- UND STIFTVERBINDUNGE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w Cen MT"/>
              </a:rPr>
              <a:t>Von Susanne Bartel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mit Übermaßpassung 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in der Stange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8" name="Gerade Verbindung 5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6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erade Verbindung 7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8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9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11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Stange mit einer Übermaß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passung und in der Gabel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09" name="Gerade Verbindung 4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Gerade Verbindung 6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Gerade Verbindung 7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Gerade Verbindung 9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Gerade Verbindung 10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Gerade Verbindung 11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s Bolzendurchmess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1611000" cy="94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0" name="Textfeld 8"/>
          <p:cNvSpPr/>
          <p:nvPr/>
        </p:nvSpPr>
        <p:spPr>
          <a:xfrm>
            <a:off x="785880" y="4214880"/>
            <a:ext cx="10000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22" name="Textfeld 10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3"/>
          <a:stretch/>
        </p:blipFill>
        <p:spPr>
          <a:xfrm>
            <a:off x="2786040" y="2143080"/>
            <a:ext cx="1028880" cy="249552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12"/>
          <p:cNvSpPr/>
          <p:nvPr/>
        </p:nvSpPr>
        <p:spPr>
          <a:xfrm>
            <a:off x="3000240" y="4786200"/>
            <a:ext cx="7858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hteck 13"/>
          <p:cNvSpPr/>
          <p:nvPr/>
        </p:nvSpPr>
        <p:spPr>
          <a:xfrm>
            <a:off x="4714920" y="2428920"/>
            <a:ext cx="3643200" cy="92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hteck 14"/>
          <p:cNvSpPr/>
          <p:nvPr/>
        </p:nvSpPr>
        <p:spPr>
          <a:xfrm>
            <a:off x="4714920" y="4500720"/>
            <a:ext cx="1500120" cy="21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hteck 15"/>
          <p:cNvSpPr/>
          <p:nvPr/>
        </p:nvSpPr>
        <p:spPr>
          <a:xfrm>
            <a:off x="4714920" y="4071960"/>
            <a:ext cx="371484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17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r Bolzen lä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2" name="Rechteck 4"/>
          <p:cNvSpPr/>
          <p:nvPr/>
        </p:nvSpPr>
        <p:spPr>
          <a:xfrm>
            <a:off x="4714920" y="3429000"/>
            <a:ext cx="3357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6" descr="617px-Neues_Bild_(2).jpg"/>
          <p:cNvPicPr/>
          <p:nvPr/>
        </p:nvPicPr>
        <p:blipFill>
          <a:blip r:embed="rId2"/>
          <a:stretch/>
        </p:blipFill>
        <p:spPr>
          <a:xfrm>
            <a:off x="714240" y="2357280"/>
            <a:ext cx="2428920" cy="25020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4" name="Textfeld 7"/>
          <p:cNvSpPr/>
          <p:nvPr/>
        </p:nvSpPr>
        <p:spPr>
          <a:xfrm>
            <a:off x="714240" y="5572080"/>
            <a:ext cx="235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l = 2 x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2 x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feld 8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chubspannung in der Nullli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785880" y="3214800"/>
            <a:ext cx="3085920" cy="74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3643560" cy="1071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41" name="Rechteck 7"/>
          <p:cNvSpPr/>
          <p:nvPr/>
        </p:nvSpPr>
        <p:spPr>
          <a:xfrm>
            <a:off x="4714920" y="3500280"/>
            <a:ext cx="3500280" cy="500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feld 8"/>
          <p:cNvSpPr/>
          <p:nvPr/>
        </p:nvSpPr>
        <p:spPr>
          <a:xfrm>
            <a:off x="1785960" y="41432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9"/>
          <p:cNvSpPr/>
          <p:nvPr/>
        </p:nvSpPr>
        <p:spPr>
          <a:xfrm>
            <a:off x="5857920" y="414324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feld 11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mittlere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928800" y="2643120"/>
            <a:ext cx="247644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8" name="Textfeld 6"/>
          <p:cNvSpPr/>
          <p:nvPr/>
        </p:nvSpPr>
        <p:spPr>
          <a:xfrm>
            <a:off x="1571760" y="37148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72040" y="2428920"/>
            <a:ext cx="2857680" cy="14479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0" name="Rechteck 8"/>
          <p:cNvSpPr/>
          <p:nvPr/>
        </p:nvSpPr>
        <p:spPr>
          <a:xfrm>
            <a:off x="5072040" y="2428920"/>
            <a:ext cx="2000160" cy="714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hteck 9"/>
          <p:cNvSpPr/>
          <p:nvPr/>
        </p:nvSpPr>
        <p:spPr>
          <a:xfrm>
            <a:off x="5072040" y="3214800"/>
            <a:ext cx="285768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feld 10"/>
          <p:cNvSpPr/>
          <p:nvPr/>
        </p:nvSpPr>
        <p:spPr>
          <a:xfrm>
            <a:off x="6072120" y="400068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1143000" y="4286160"/>
            <a:ext cx="1928880" cy="1890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4" name="Textfeld 12"/>
          <p:cNvSpPr/>
          <p:nvPr/>
        </p:nvSpPr>
        <p:spPr>
          <a:xfrm>
            <a:off x="1785960" y="6357960"/>
            <a:ext cx="6429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ETB S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feld 13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Stiftverbindung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werden hergestellt, indem in eine durch alle zu verbindenden Teile gehende Aufnahmebohrung ein Stift mit Übermaß eingedrückt wi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e entstehende Verbindung ist form- und kraftschlüssi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500280" y="4572000"/>
            <a:ext cx="1860840" cy="1585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9" name="Textfeld 5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Stif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der Lage (Fixzierung/Zentrieru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gegen verdre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von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von Bolzen und Mutt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Wegbegrenzung von Maschinenteilen (Anschlagstif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2" name="Grafik 4" descr="http://www.einachser.org/schmiedag/Fahrwerk-Dateien/image009.jpg"/>
          <p:cNvPicPr/>
          <p:nvPr/>
        </p:nvPicPr>
        <p:blipFill>
          <a:blip r:embed="rId1"/>
          <a:stretch/>
        </p:blipFill>
        <p:spPr>
          <a:xfrm>
            <a:off x="2714760" y="4357800"/>
            <a:ext cx="3809880" cy="2320920"/>
          </a:xfrm>
          <a:prstGeom prst="rect">
            <a:avLst/>
          </a:prstGeom>
          <a:ln w="0">
            <a:noFill/>
          </a:ln>
        </p:spPr>
      </p:pic>
      <p:sp>
        <p:nvSpPr>
          <p:cNvPr id="463" name="Ellipse 5"/>
          <p:cNvSpPr/>
          <p:nvPr/>
        </p:nvSpPr>
        <p:spPr>
          <a:xfrm>
            <a:off x="3000240" y="5429160"/>
            <a:ext cx="57168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llipse 7"/>
          <p:cNvSpPr/>
          <p:nvPr/>
        </p:nvSpPr>
        <p:spPr>
          <a:xfrm>
            <a:off x="5857920" y="5429160"/>
            <a:ext cx="57132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gel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4071960" cy="390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69" name="Textfeld 5"/>
          <p:cNvSpPr/>
          <p:nvPr/>
        </p:nvSpPr>
        <p:spPr>
          <a:xfrm>
            <a:off x="571680" y="2857680"/>
            <a:ext cx="292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Gewindezapfen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Innengewinde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feld 6"/>
          <p:cNvSpPr/>
          <p:nvPr/>
        </p:nvSpPr>
        <p:spPr>
          <a:xfrm>
            <a:off x="5286240" y="607212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Zylinder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4071960" y="2357280"/>
            <a:ext cx="4572000" cy="28479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75" name="Textfeld 7"/>
          <p:cNvSpPr/>
          <p:nvPr/>
        </p:nvSpPr>
        <p:spPr>
          <a:xfrm>
            <a:off x="214200" y="31431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-d) mit Innengewinde und Abflachung oder Längsrille zur Druckent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e) lösen mit hilfe einer Abziehschra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) lösen mit Hilfe eines Schlaggewich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feld 8"/>
          <p:cNvSpPr/>
          <p:nvPr/>
        </p:nvSpPr>
        <p:spPr>
          <a:xfrm>
            <a:off x="5715000" y="542916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Überbli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satzgebie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or- und Nachtei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mensioni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rb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4345200" cy="23954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81" name="Textfeld 5"/>
          <p:cNvSpPr/>
          <p:nvPr/>
        </p:nvSpPr>
        <p:spPr>
          <a:xfrm>
            <a:off x="500040" y="26431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rbpr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g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 mit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Steck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neb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Halbrund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)   Senk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6"/>
          <p:cNvSpPr/>
          <p:nvPr/>
        </p:nvSpPr>
        <p:spPr>
          <a:xfrm>
            <a:off x="5357880" y="535788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2 Bild 9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Unter einem </a:t>
            </a: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Bolz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versteht man ein Maschinenelement zur gelenkigen Verbindung von Werkstück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können verschraubt oder durch Sicherungsstifte in der Verbindung gehalten wer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000240" y="4286160"/>
            <a:ext cx="2957760" cy="191448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65" name="Textfeld 5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ose und feste Verbind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drehsicherung für Naben/Wel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Gelenkbolz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agegenaue Fixierung von Bautei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für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429000" y="4429080"/>
            <a:ext cx="2357280" cy="2043000"/>
          </a:xfrm>
          <a:prstGeom prst="rect">
            <a:avLst/>
          </a:prstGeom>
          <a:ln w="0">
            <a:noFill/>
          </a:ln>
        </p:spPr>
      </p:pic>
      <p:sp>
        <p:nvSpPr>
          <p:cNvPr id="369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Vorte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s lassen sich ungleiche Werkstoffe leicht verbin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fach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ostengünstig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bindung ist leicht lösb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Nachteile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Faserverlauf wird durch Bohrungen unterbro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rmüdungsrisse können an den Bohrungen auftre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urch nötige Überlappung höheres Gewich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annungen am Bohrloch durch dickere Wandungen ausglei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olzen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928800" y="1603440"/>
            <a:ext cx="5643360" cy="336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78" name="Textfeld 4"/>
          <p:cNvSpPr/>
          <p:nvPr/>
        </p:nvSpPr>
        <p:spPr>
          <a:xfrm>
            <a:off x="1214280" y="52149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 mit Splint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Splintl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Gewindezap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feld 5"/>
          <p:cNvSpPr/>
          <p:nvPr/>
        </p:nvSpPr>
        <p:spPr>
          <a:xfrm>
            <a:off x="6715080" y="307188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 Bild 9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6"/>
          <p:cNvSpPr/>
          <p:nvPr/>
        </p:nvSpPr>
        <p:spPr>
          <a:xfrm>
            <a:off x="1071720" y="1857240"/>
            <a:ext cx="1143000" cy="271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feld 8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eanspruchung der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Bieg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Schu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bsch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 rot="5400000">
            <a:off x="4905720" y="2302560"/>
            <a:ext cx="4162320" cy="36781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85" name="Textfeld 4"/>
          <p:cNvSpPr/>
          <p:nvPr/>
        </p:nvSpPr>
        <p:spPr>
          <a:xfrm>
            <a:off x="6357960" y="6357960"/>
            <a:ext cx="135720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 Bild 9-2 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5148360" y="2060640"/>
            <a:ext cx="36781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und in der Stange m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1" name="Gerade Verbindung 5"/>
          <p:cNvSpPr/>
          <p:nvPr/>
        </p:nvSpPr>
        <p:spPr>
          <a:xfrm>
            <a:off x="4000680" y="457200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Gerade Verbindung 6"/>
          <p:cNvSpPr/>
          <p:nvPr/>
        </p:nvSpPr>
        <p:spPr>
          <a:xfrm>
            <a:off x="4000680" y="500076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feld 7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8:17:41Z</dcterms:created>
  <dc:creator>Susanne</dc:creator>
  <dc:description/>
  <dc:language>en-US</dc:language>
  <cp:lastModifiedBy>Susanne</cp:lastModifiedBy>
  <dcterms:modified xsi:type="dcterms:W3CDTF">2010-08-23T14:05:11Z</dcterms:modified>
  <cp:revision>81</cp:revision>
  <dc:subject/>
  <dc:title>Bolzen- und Stiftverbindungen</dc:title>
</cp:coreProperties>
</file>